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16C-FBEB-4D1D-8B82-7D40C61B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25A-72D6-49DA-94A9-56032B47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CC6-7FA3-4228-A0B8-C6CFAF1F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108-4372-4CB9-8729-7ECAE9CD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4869-850B-4D10-A406-EFC2BA8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EAE-796C-4754-A20A-F82412B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8838-8432-4209-B2FF-A3CD8DA0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5E1C-4CB0-4116-BC23-894AF67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9609-8A5F-451F-811E-C09F95C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467-961E-43AF-8F80-48325F19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AEA5-D4AC-439A-9AAB-BB8DBE1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314-F2A9-4202-8A5D-503CD75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1C96-C650-489C-B1F1-972E4BC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A71-175C-4118-BE27-D11AB35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13A-EEE9-4850-8170-17A805B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A066-29EC-4508-A05B-74D884CD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73E-FAE6-4C39-95DF-4331FF7A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E9F81-D3F4-44CB-88DC-E5B06D9E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C93FB-B44B-4447-AC26-3930CDD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8D8A-FFFB-4526-BD24-2E7FED72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D742C-484E-48CB-8A8D-A9F18E55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44486-BAF6-4FB8-B029-2223F5E4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4D8-3F02-4D8F-9A02-173AE5B3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4FCD3-4CE9-45DC-AD1C-20536E8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5BB9A-2F59-4714-953E-6500E2C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57617-D398-4294-9FC4-40372C5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B9716-313E-479A-8239-B2EE617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D69A4-C21A-498B-AE3C-964F8D7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BF481-7607-4B0A-9753-5E8C6477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6A460-8151-4BF4-BCF3-F84F77F4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CC4F-B16E-4670-8D60-BE5FD025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2FF7-0465-4B83-A7CD-FF4218DC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E76B-BEE4-4DC0-B736-D7F3D4E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51D-1923-4CE0-B01F-AF65899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21E2-3ADD-4200-AE66-8334577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D4EF-673B-41C8-94CF-4D089CC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C948-6174-46AA-8CF6-7A2CEDA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A3F2-33D4-4D03-8AA2-FD48AD6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1E9C-D169-4B03-B272-6361B23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E269-E0C2-450A-AC8D-C6A6D0F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0336-5B6A-4579-ACB1-45E16E9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2F77-8E17-40E1-9778-87F0C9DE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BAE7-5A98-4D4D-9322-223D02E0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885-B3F5-4D77-8853-CACCD95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722-5939-4E26-B943-6928B60D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F3B-E866-42CB-B1D3-5DD31C7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A09-9602-4421-A5A4-2C449F9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136-89F3-45E5-8D9C-4113D07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CAE-2795-4910-9BFD-26E92BA41C95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0BA3-8FA7-47FE-AF77-9A6435FD430C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4088-39BB-46E8-BA72-9DB5BC7569C3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88B-A22E-4AEF-B00A-5BDC3C809FD9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Doda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2484360" y="4581360"/>
            <a:ext cx="4287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dwucyfrowych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jako pierwsze dodajemy jedności czyl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+ 4 = 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podpisujemy pod jednościam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+ 2 = 5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32 + 24 = 5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2400" y="3995640"/>
            <a:ext cx="1081080" cy="582480"/>
            <a:chOff x="6872400" y="3995640"/>
            <a:chExt cx="1081080" cy="582480"/>
          </a:xfrm>
        </p:grpSpPr>
        <p:sp>
          <p:nvSpPr>
            <p:cNvPr id="227" name="pole tekstowe 12"/>
            <p:cNvSpPr/>
            <p:nvPr/>
          </p:nvSpPr>
          <p:spPr>
            <a:xfrm>
              <a:off x="7158600" y="3995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158600" y="420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2400" y="4500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66000" y="414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49040" y="4427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ole tekstowe 23"/>
          <p:cNvSpPr/>
          <p:nvPr/>
        </p:nvSpPr>
        <p:spPr>
          <a:xfrm>
            <a:off x="715860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Elipsa 1"/>
          <p:cNvSpPr/>
          <p:nvPr/>
        </p:nvSpPr>
        <p:spPr>
          <a:xfrm>
            <a:off x="7188120" y="4022640"/>
            <a:ext cx="2523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Elipsa 18"/>
          <p:cNvSpPr/>
          <p:nvPr/>
        </p:nvSpPr>
        <p:spPr>
          <a:xfrm>
            <a:off x="7389720" y="4029120"/>
            <a:ext cx="25236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35 + 231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następnie podpisujemy prawidłowo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 + 231 = 66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3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4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4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3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Elipsa 1"/>
          <p:cNvSpPr/>
          <p:nvPr/>
        </p:nvSpPr>
        <p:spPr>
          <a:xfrm>
            <a:off x="7596360" y="4357800"/>
            <a:ext cx="2664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Elipsa 19"/>
          <p:cNvSpPr/>
          <p:nvPr/>
        </p:nvSpPr>
        <p:spPr>
          <a:xfrm>
            <a:off x="7373880" y="4357800"/>
            <a:ext cx="2682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Elipsa 20"/>
          <p:cNvSpPr/>
          <p:nvPr/>
        </p:nvSpPr>
        <p:spPr>
          <a:xfrm>
            <a:off x="7184880" y="4365720"/>
            <a:ext cx="26676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1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5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: 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5 + 36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+ 6 = 1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1 dziesiątka i 1 jednoś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w rzędzie jedności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+ 4 + 3 = 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sumie w rzędzie dziesiątek wpisujemy 8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45 + 36 = 8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6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4" name="Grupa 25"/>
          <p:cNvGrpSpPr/>
          <p:nvPr/>
        </p:nvGrpSpPr>
        <p:grpSpPr>
          <a:xfrm>
            <a:off x="6875640" y="4211640"/>
            <a:ext cx="1081080" cy="582480"/>
            <a:chOff x="6875640" y="4211640"/>
            <a:chExt cx="1081080" cy="582480"/>
          </a:xfrm>
        </p:grpSpPr>
        <p:sp>
          <p:nvSpPr>
            <p:cNvPr id="265" name="pole tekstowe 12"/>
            <p:cNvSpPr/>
            <p:nvPr/>
          </p:nvSpPr>
          <p:spPr>
            <a:xfrm>
              <a:off x="7161840" y="4211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pole tekstowe 13"/>
            <p:cNvSpPr/>
            <p:nvPr/>
          </p:nvSpPr>
          <p:spPr>
            <a:xfrm>
              <a:off x="7161840" y="4425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Łącznik prostoliniowy 14"/>
            <p:cNvSpPr/>
            <p:nvPr/>
          </p:nvSpPr>
          <p:spPr>
            <a:xfrm>
              <a:off x="6875640" y="4716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pole tekstowe 15"/>
            <p:cNvSpPr/>
            <p:nvPr/>
          </p:nvSpPr>
          <p:spPr>
            <a:xfrm>
              <a:off x="6969240" y="436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69" name="pole tekstowe 16"/>
          <p:cNvSpPr/>
          <p:nvPr/>
        </p:nvSpPr>
        <p:spPr>
          <a:xfrm>
            <a:off x="7352280" y="464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ole tekstowe 26"/>
          <p:cNvSpPr/>
          <p:nvPr/>
        </p:nvSpPr>
        <p:spPr>
          <a:xfrm>
            <a:off x="7155360" y="398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7"/>
          <p:cNvSpPr/>
          <p:nvPr/>
        </p:nvSpPr>
        <p:spPr>
          <a:xfrm>
            <a:off x="714276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Elipsa 1"/>
          <p:cNvSpPr/>
          <p:nvPr/>
        </p:nvSpPr>
        <p:spPr>
          <a:xfrm>
            <a:off x="7380360" y="4211640"/>
            <a:ext cx="24588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Elipsa 19"/>
          <p:cNvSpPr/>
          <p:nvPr/>
        </p:nvSpPr>
        <p:spPr>
          <a:xfrm>
            <a:off x="7188120" y="3986280"/>
            <a:ext cx="246240" cy="74916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124 + 34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4 + 9 = 13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3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to 1 dziesiątka i 3 jednośc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3 jedności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+ 2 + 4 = 7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7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24 + 349 = 47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4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4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Elipsa 1"/>
          <p:cNvSpPr/>
          <p:nvPr/>
        </p:nvSpPr>
        <p:spPr>
          <a:xfrm>
            <a:off x="7561440" y="4379760"/>
            <a:ext cx="2505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Elipsa 20"/>
          <p:cNvSpPr/>
          <p:nvPr/>
        </p:nvSpPr>
        <p:spPr>
          <a:xfrm>
            <a:off x="7391520" y="4149720"/>
            <a:ext cx="250560" cy="7351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Elipsa 21"/>
          <p:cNvSpPr/>
          <p:nvPr/>
        </p:nvSpPr>
        <p:spPr>
          <a:xfrm>
            <a:off x="7188120" y="4379760"/>
            <a:ext cx="25092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9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396 + 2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6 + 9 = 15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1 dziesiątka i 5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5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1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9 + 2 = 12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setka i 2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2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etkę dopisujemy do rzędu se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setki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3 = 4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396 + 29 = 4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9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ole tekstowe 7"/>
          <p:cNvSpPr/>
          <p:nvPr/>
        </p:nvSpPr>
        <p:spPr>
          <a:xfrm>
            <a:off x="734760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0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0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9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6" name="pole tekstowe 13"/>
            <p:cNvSpPr/>
            <p:nvPr/>
          </p:nvSpPr>
          <p:spPr>
            <a:xfrm>
              <a:off x="7175880" y="457200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   </a:t>
              </a: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ole tekstowe 19"/>
          <p:cNvSpPr/>
          <p:nvPr/>
        </p:nvSpPr>
        <p:spPr>
          <a:xfrm>
            <a:off x="714276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Elipsa 1"/>
          <p:cNvSpPr/>
          <p:nvPr/>
        </p:nvSpPr>
        <p:spPr>
          <a:xfrm>
            <a:off x="7564320" y="4367160"/>
            <a:ext cx="247680" cy="5018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Elipsa 21"/>
          <p:cNvSpPr/>
          <p:nvPr/>
        </p:nvSpPr>
        <p:spPr>
          <a:xfrm>
            <a:off x="7377120" y="4218120"/>
            <a:ext cx="24768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Elipsa 22"/>
          <p:cNvSpPr/>
          <p:nvPr/>
        </p:nvSpPr>
        <p:spPr>
          <a:xfrm>
            <a:off x="7164360" y="4218120"/>
            <a:ext cx="24912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25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5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25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3:16Z</dcterms:modified>
  <cp:revision>46</cp:revision>
  <dc:subject/>
  <dc:title>Prezentacja programu PowerPoint</dc:title>
</cp:coreProperties>
</file>